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DF4E-4EC7-411C-BE7B-48DA5C584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104C-EC73-438F-9C8B-14884E3B0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28F0-734E-49F3-924F-78F8A5508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8DA3-6F0E-49FC-937E-8D063FFB1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F0556-1174-4DF5-9408-FF55FAA64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841A3-43A1-4BC9-8DFE-70B3C191C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7B5DE-2FDD-4E58-9EE5-CC805CBC7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1375B-A0B8-40C5-B96C-DCA8D4E41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CD15D-C953-4F06-9C5B-123BE7C1C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1243E-8D0E-44C1-8BDE-529048AAC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95486-095B-495C-8CA9-2B7C5FCE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134A-29C7-4344-AFA1-3D617A1F9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9AE2E-7DB7-465F-A545-B7503ECF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8E921-AACD-4165-A9C5-2CAE454A0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62B1F-AE81-495D-9323-D64E7409F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74E52-D232-4206-BFEB-E6DD594BC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23FA5-2549-4C58-87E7-23891DB32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2642-7B5D-4755-A560-3C22FD0C5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CB80-5D2B-45F5-A114-2C8845803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ACBA-70B9-454F-88CE-94A7A61CC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2893-5C6A-47EF-8036-519D3FB60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10A1-71F4-4C0C-916C-76C7FACD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30EA-A0DD-497A-942E-5BA7C7AF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4BAC-D5F6-4029-AF16-30BE2ED8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52BB2-3F27-4ACD-A9EE-828D537D78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1E3A0-9F35-4A84-8E48-E0017D1192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HOW TO DO OPERATIONS IN SCIENTIFIC NOTATION 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IENTIFIC NO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659640" y="620640"/>
            <a:ext cx="1827000" cy="11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USING YOUR E, Exp, or EE KEY IN YOUR CALCULATOR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424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’s try a few problem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4x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-3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X 1.66x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4 EE-3 X 1.66 EE 4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4 Exp-3 X 1.66Exp4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4E-3 X 1.66 E4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3.78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877080" y="5229360"/>
            <a:ext cx="1827360" cy="111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ultiplying in Scientific Nota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9280" y="1612800"/>
            <a:ext cx="8604360" cy="524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:   3.24x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-3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X 1.66x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 Multiply the Bases:  (Numbers in front of the multiplication sign):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24 X 1.6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5.37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Add the exponents:  (-3) + (4) 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“one” becomes the exponent = 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1 is understoo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 Now: 5.3784 X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3.7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659640" y="5300640"/>
            <a:ext cx="1827000" cy="11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Let’s try one more, WITHOUT A CALCULATOR…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2090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.022 X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23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  2.55 X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 Multiply the bas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.022X2.55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.3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 Add the expon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+2= 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swer:  15.35X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Move the decimal point to the left one space, to have only one whole number. If I move one space to the left, my exponent increase in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st answer: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535X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2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662880" y="2465280"/>
            <a:ext cx="177768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930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Dividing in Scientific Notation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137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: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3.24x10</a:t>
            </a:r>
            <a:r>
              <a:rPr b="0" lang="en-US" sz="2800" spc="-1" strike="noStrike" u="sng" baseline="30000">
                <a:solidFill>
                  <a:srgbClr val="ffffff"/>
                </a:solidFill>
                <a:uFillTx/>
                <a:latin typeface="Arial"/>
              </a:rPr>
              <a:t>-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66x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Divide the Bases:  (Number in front of the multiplication sign)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3.2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66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1.9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Subtract the exponent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-3) -(4)  = -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“negative 7” becomes the exponent =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7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 Our answer is: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95 X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-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948360" y="1125360"/>
            <a:ext cx="1827360" cy="11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13:14:50Z</dcterms:created>
  <dc:creator> </dc:creator>
  <dc:description/>
  <dc:language>en-US</dc:language>
  <cp:lastModifiedBy> </cp:lastModifiedBy>
  <dcterms:modified xsi:type="dcterms:W3CDTF">2007-11-11T15:22:20Z</dcterms:modified>
  <cp:revision>2</cp:revision>
  <dc:subject/>
  <dc:title>HOW TO USE MY SCIENTIFIC CALCULATOR </dc:title>
</cp:coreProperties>
</file>